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62F49-6FE6-4A46-934E-12FFDEC43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0F5CE-7629-422B-AF39-9A8F32B23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BB880-1984-41FF-83C0-21EC41A2F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DDE50-779D-4FE2-B141-4ED598C5B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D5A5A-B56F-4F0A-9C8C-9B8405344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A76E7-563C-4482-8190-B5B35A3C4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65D2A-CFAC-4CA5-984B-F73259950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24480-450E-4B44-A18B-BFF7A55D6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43E82-B7C5-40EE-B7F5-42567E701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FD5B6-5830-4CFD-906C-9A5A3A370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C7B90-77ED-4433-A6F5-6D2105EB1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84C67-8F49-4C11-947F-6998D91A1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526BE-0D30-4E68-A844-C5FDCF8FB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3EFE2-991D-4C17-A9E4-D0A905ECE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AF37A-493C-47D9-AA6F-7BF717325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4B261-FA3E-44C6-A7BC-BA1CF70FC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23EF9-4EA8-4F1D-A202-792467C3B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1C34E-348E-4C50-8BB7-3C4397312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50277-FC86-4409-9390-8A0E45B3E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7CD85-3438-423B-AEA9-98F949A1A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1715F-C067-48AF-A2AC-5D017FF7E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60CA3-CD7C-4C35-9361-82F7969E3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8A41F-1473-4BAC-953F-EB4F3CC2B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63647-48B0-4AC0-B3F2-3149E6E44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BF9EF-1D6E-42F5-B3CA-5EE398A29BE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82EF3-C9DF-4860-B10A-8F1DACACEE5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b7"/>
                </a:solidFill>
                <a:latin typeface="Arial Black"/>
              </a:rPr>
              <a:t>Tyrannosaurus Rex Facts</a:t>
            </a:r>
            <a:br>
              <a:rPr sz="4800"/>
            </a:b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Grade Enrichment Cla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Facts about the T. Rex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 T. Rex fossils have been found in the western U.S. and Canad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yrannosaurus Rex needed to eat 6 tons of meat every week or it would die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harp claws on the Tyrannosaurus’s feet could tear through other dinosaurs’ ski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itlyn McCloske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T. Rex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8007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T. Rex fossils were found in Montana in 1908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word </a:t>
            </a:r>
            <a:r>
              <a:rPr b="0" lang="en-US" sz="2800" spc="-1" strike="noStrike">
                <a:solidFill>
                  <a:srgbClr val="ffffff"/>
                </a:solidFill>
                <a:latin typeface="Cooper Black"/>
              </a:rPr>
              <a:t>Rex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ans </a:t>
            </a:r>
            <a:r>
              <a:rPr b="0" lang="en-US" sz="2800" spc="-1" strike="noStrike">
                <a:solidFill>
                  <a:srgbClr val="ffffff"/>
                </a:solidFill>
                <a:latin typeface="Cooper Black"/>
              </a:rPr>
              <a:t>Kin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T. Rex can tear 441 lb. in one bit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y kill the weakest members of a herd. (young and old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flesh and other organs rot away when an animal dies leaving the skelet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aylor Smi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T. Rex Facts</a:t>
            </a: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T. Rex was around 65 to 68 million years ag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T. Rex has 2 claws on its hand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T. Rex is famous for many thing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yers of sand and mud cover bones and teet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ie Schle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What we all think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all think that the T Rex was the most fearsome dinosau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all think that when  the T Rex died the T Rex’s bones spread apar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all think the T Rex weighed about 5 tons or mor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4T14:48:21Z</dcterms:created>
  <dc:creator>Montour School District</dc:creator>
  <dc:description/>
  <dc:language>en-US</dc:language>
  <cp:lastModifiedBy>Montour School District</cp:lastModifiedBy>
  <dcterms:modified xsi:type="dcterms:W3CDTF">2008-05-21T16:13:23Z</dcterms:modified>
  <cp:revision>7</cp:revision>
  <dc:subject/>
  <dc:title>Tyrannosaurus Rex Facts </dc:title>
</cp:coreProperties>
</file>